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DE9-7024-4466-89E4-891B01FF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E4A-0068-4DC4-B2B6-93CCD61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B91-DC00-4CF8-88A7-C4F2E98C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0E0-E91A-4A5C-B80F-07B25A36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760-9E82-45EF-B149-5EAF6997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204-5232-421A-A451-10433D9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50B-AFFD-49A3-8128-2D53CA6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A04-B605-4B39-A4E7-0DDF4E6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A4F-3B7D-4FBE-A624-E905286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06A-1DCA-435A-92F1-E611A54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0C1-FFCD-45BA-BE18-AA0C13C2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35E-21D3-473D-8459-C19D2E5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320-49A9-43CF-AA43-B9498D1D1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14400" y="1706400"/>
            <a:ext cx="787068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191400" y="7650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桥     之    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587280" y="119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吴冠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RJ12.eps" descr="id:2147502035;FounderCES"/>
          <p:cNvPicPr/>
          <p:nvPr/>
        </p:nvPicPr>
        <p:blipFill>
          <a:blip r:embed="rId2"/>
          <a:stretch/>
        </p:blipFill>
        <p:spPr>
          <a:xfrm>
            <a:off x="611280" y="1413000"/>
            <a:ext cx="81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1914120" y="1504800"/>
            <a:ext cx="540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课文在讲述桥与周围景物的关系时举了四个例子进行说明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它们彼此之间是怎样的关系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第一个例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石桥与密密的苇丛的配合给人们带来的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厚厚实实平面铺开的苇丛使空间显得拥挤狭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令人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憋闷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或出现的石桥轮廓简单鲜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空间陡然疏朗开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令人神清气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第二个例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石桥与细柳合作创造的动人景致。细弱的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枝拂着桥身厚重坚硬的石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有形态上的强与弱、轻与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与静之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上的对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与不变之别。种种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结起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就是阳刚与阴柔两种美的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距如此之大却仍能和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就在于桥有着经过精心设计的轮廓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对角圆角矩形 5"/>
          <p:cNvSpPr/>
          <p:nvPr/>
        </p:nvSpPr>
        <p:spPr>
          <a:xfrm>
            <a:off x="324000" y="1484280"/>
            <a:ext cx="8280360" cy="936720"/>
          </a:xfrm>
          <a:custGeom>
            <a:avLst/>
            <a:gdLst/>
            <a:ahLst/>
            <a:rect l="l" t="t" r="r" b="b"/>
            <a:pathLst>
              <a:path w="8280920" h="936104">
                <a:moveTo>
                  <a:pt x="15602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780083"/>
                </a:lnTo>
                <a:cubicBezTo>
                  <a:pt x="8280920" y="866250"/>
                  <a:pt x="8211067" y="936103"/>
                  <a:pt x="8124900" y="936103"/>
                </a:cubicBezTo>
                <a:lnTo>
                  <a:pt x="0" y="936104"/>
                </a:lnTo>
                <a:lnTo>
                  <a:pt x="0" y="936104"/>
                </a:lnTo>
                <a:lnTo>
                  <a:pt x="0" y="156020"/>
                </a:lnTo>
                <a:cubicBezTo>
                  <a:pt x="0" y="69853"/>
                  <a:pt x="69853" y="0"/>
                  <a:pt x="15602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标注 6"/>
          <p:cNvSpPr/>
          <p:nvPr/>
        </p:nvSpPr>
        <p:spPr>
          <a:xfrm>
            <a:off x="179280" y="2565360"/>
            <a:ext cx="8713800" cy="3384720"/>
          </a:xfrm>
          <a:prstGeom prst="wedgeRoundRectCallout">
            <a:avLst>
              <a:gd name="adj1" fmla="val 9203"/>
              <a:gd name="adj2" fmla="val -5256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8"/>
          <p:cNvSpPr/>
          <p:nvPr/>
        </p:nvSpPr>
        <p:spPr>
          <a:xfrm>
            <a:off x="1116000" y="260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7"/>
          <p:cNvSpPr/>
          <p:nvPr/>
        </p:nvSpPr>
        <p:spPr>
          <a:xfrm>
            <a:off x="971640" y="260280"/>
            <a:ext cx="2160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t2.jpg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2031120" y="686160"/>
            <a:ext cx="5451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个例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长桥之美。长桥一般建在比较宽阔的水面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破了背景的单调感。同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前文所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桥是人们劳动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现在苍茫水面上的长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创造力的体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这个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义上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似乎也具有了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个例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形式比较独特的桥——风雨桥。作者没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言桥所起的作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们不难想象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桥面上盖有廊和亭的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安适、自在的感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感觉恰好与险峻的山峰、桥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急流给人的印象形成对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四个例子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桥或为主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为陪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起着画龙点睛的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都与周围景物形成和谐的一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构成入画的景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对角圆角矩形 5"/>
          <p:cNvSpPr/>
          <p:nvPr/>
        </p:nvSpPr>
        <p:spPr>
          <a:xfrm>
            <a:off x="324000" y="836640"/>
            <a:ext cx="8496000" cy="5329080"/>
          </a:xfrm>
          <a:custGeom>
            <a:avLst/>
            <a:gdLst/>
            <a:ahLst/>
            <a:rect l="l" t="t" r="r" b="b"/>
            <a:pathLst>
              <a:path w="8496944" h="5328592">
                <a:moveTo>
                  <a:pt x="888116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440475"/>
                </a:lnTo>
                <a:cubicBezTo>
                  <a:pt x="8496944" y="4930968"/>
                  <a:pt x="8099321" y="5328591"/>
                  <a:pt x="7608828" y="5328591"/>
                </a:cubicBezTo>
                <a:lnTo>
                  <a:pt x="0" y="5328592"/>
                </a:lnTo>
                <a:lnTo>
                  <a:pt x="0" y="5328592"/>
                </a:lnTo>
                <a:lnTo>
                  <a:pt x="0" y="888116"/>
                </a:lnTo>
                <a:cubicBezTo>
                  <a:pt x="0" y="397623"/>
                  <a:pt x="397623" y="0"/>
                  <a:pt x="88811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2219040" y="1575360"/>
            <a:ext cx="498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本文与《中国石拱桥》一文比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从两文的内容上看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什么不同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从写法上看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又有什么不同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中国石拱桥》介绍了我国石拱桥的特征及发展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本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是以画家的眼光和标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掘桥在不同环境中所产生的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效果。在写法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中国石拱桥》是平实的说明性语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则是较为细致生动的描绘性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9"/>
          <p:cNvSpPr/>
          <p:nvPr/>
        </p:nvSpPr>
        <p:spPr>
          <a:xfrm>
            <a:off x="395280" y="1557360"/>
            <a:ext cx="8353440" cy="1295280"/>
          </a:xfrm>
          <a:prstGeom prst="wedgeRoundRectCallout">
            <a:avLst>
              <a:gd name="adj1" fmla="val -6865"/>
              <a:gd name="adj2" fmla="val 6736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标注 10"/>
          <p:cNvSpPr/>
          <p:nvPr/>
        </p:nvSpPr>
        <p:spPr>
          <a:xfrm>
            <a:off x="468360" y="3213000"/>
            <a:ext cx="8280360" cy="2448000"/>
          </a:xfrm>
          <a:prstGeom prst="wedgeRoundRectCallout">
            <a:avLst>
              <a:gd name="adj1" fmla="val 3726"/>
              <a:gd name="adj2" fmla="val -5598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755640" y="97092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注音全对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éi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 和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苍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点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u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摧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uī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纤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画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摄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niè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孕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ù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险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ùn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笼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ǒ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脂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ǐ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陡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ǒ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í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驻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755640" y="60278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纤”应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;C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摄”应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è;D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脂”应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ī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870880" y="10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8"/>
          <p:cNvSpPr/>
          <p:nvPr/>
        </p:nvSpPr>
        <p:spPr>
          <a:xfrm>
            <a:off x="4284720" y="2060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9"/>
          <p:cNvSpPr/>
          <p:nvPr/>
        </p:nvSpPr>
        <p:spPr>
          <a:xfrm flipH="1">
            <a:off x="3995640" y="587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0"/>
          <p:cNvSpPr/>
          <p:nvPr/>
        </p:nvSpPr>
        <p:spPr>
          <a:xfrm>
            <a:off x="125892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1"/>
          <p:cNvSpPr/>
          <p:nvPr/>
        </p:nvSpPr>
        <p:spPr>
          <a:xfrm>
            <a:off x="4284720" y="2637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2"/>
          <p:cNvSpPr/>
          <p:nvPr/>
        </p:nvSpPr>
        <p:spPr>
          <a:xfrm>
            <a:off x="1187280" y="263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3"/>
          <p:cNvSpPr/>
          <p:nvPr/>
        </p:nvSpPr>
        <p:spPr>
          <a:xfrm>
            <a:off x="3995640" y="314172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4"/>
          <p:cNvSpPr/>
          <p:nvPr/>
        </p:nvSpPr>
        <p:spPr>
          <a:xfrm>
            <a:off x="125892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5"/>
          <p:cNvSpPr/>
          <p:nvPr/>
        </p:nvSpPr>
        <p:spPr>
          <a:xfrm>
            <a:off x="971640" y="371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6"/>
          <p:cNvSpPr/>
          <p:nvPr/>
        </p:nvSpPr>
        <p:spPr>
          <a:xfrm>
            <a:off x="421164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7"/>
          <p:cNvSpPr/>
          <p:nvPr/>
        </p:nvSpPr>
        <p:spPr>
          <a:xfrm>
            <a:off x="3924360" y="422100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8"/>
          <p:cNvSpPr/>
          <p:nvPr/>
        </p:nvSpPr>
        <p:spPr>
          <a:xfrm>
            <a:off x="1187280" y="422100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9"/>
          <p:cNvSpPr/>
          <p:nvPr/>
        </p:nvSpPr>
        <p:spPr>
          <a:xfrm>
            <a:off x="3995640" y="4797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0"/>
          <p:cNvSpPr/>
          <p:nvPr/>
        </p:nvSpPr>
        <p:spPr>
          <a:xfrm>
            <a:off x="1187280" y="4797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1"/>
          <p:cNvSpPr/>
          <p:nvPr/>
        </p:nvSpPr>
        <p:spPr>
          <a:xfrm>
            <a:off x="3924360" y="5373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2"/>
          <p:cNvSpPr/>
          <p:nvPr/>
        </p:nvSpPr>
        <p:spPr>
          <a:xfrm>
            <a:off x="1258920" y="537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3"/>
          <p:cNvSpPr/>
          <p:nvPr/>
        </p:nvSpPr>
        <p:spPr>
          <a:xfrm>
            <a:off x="1187280" y="587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302480" y="1004400"/>
            <a:ext cx="668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课文内容选择正确的词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绿水依旧绕人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彻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摧毁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摧残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毁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画家眼中的结构美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当其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呈现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现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座石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发闷的苇丛做了一次深呼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了一口舒畅的气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论是木桥还是石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身段的纵横与桥下的水波协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奏出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唱出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谱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与色的乐曲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滨江多垂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山开桃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脂粉颜色哪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之美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5089680" y="1557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"/>
          <p:cNvSpPr/>
          <p:nvPr/>
        </p:nvSpPr>
        <p:spPr>
          <a:xfrm>
            <a:off x="2561040" y="2708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1126080" y="4292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7322760" y="4797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1650240" y="1067760"/>
            <a:ext cx="564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句子中加点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煞它风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江南水乡或威尼斯的石桥拆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…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摧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形式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煞它风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形式处理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失之毫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之千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之毫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之千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3301200" y="285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破坏人的兴致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3059280" y="38606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意思是相差虽小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造成的误差或错误极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5"/>
          <p:cNvSpPr/>
          <p:nvPr/>
        </p:nvSpPr>
        <p:spPr>
          <a:xfrm>
            <a:off x="1547640" y="2205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1908000" y="2205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8"/>
          <p:cNvSpPr/>
          <p:nvPr/>
        </p:nvSpPr>
        <p:spPr>
          <a:xfrm>
            <a:off x="2195640" y="220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9"/>
          <p:cNvSpPr/>
          <p:nvPr/>
        </p:nvSpPr>
        <p:spPr>
          <a:xfrm>
            <a:off x="2484360" y="2205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0"/>
          <p:cNvSpPr/>
          <p:nvPr/>
        </p:nvSpPr>
        <p:spPr>
          <a:xfrm>
            <a:off x="630072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1"/>
          <p:cNvSpPr/>
          <p:nvPr/>
        </p:nvSpPr>
        <p:spPr>
          <a:xfrm>
            <a:off x="6012000" y="378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2"/>
          <p:cNvSpPr/>
          <p:nvPr/>
        </p:nvSpPr>
        <p:spPr>
          <a:xfrm>
            <a:off x="572436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3"/>
          <p:cNvSpPr/>
          <p:nvPr/>
        </p:nvSpPr>
        <p:spPr>
          <a:xfrm>
            <a:off x="5364000" y="378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4"/>
          <p:cNvSpPr/>
          <p:nvPr/>
        </p:nvSpPr>
        <p:spPr>
          <a:xfrm>
            <a:off x="4356000" y="378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471636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6"/>
          <p:cNvSpPr/>
          <p:nvPr/>
        </p:nvSpPr>
        <p:spPr>
          <a:xfrm>
            <a:off x="5003640" y="378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7"/>
          <p:cNvSpPr/>
          <p:nvPr/>
        </p:nvSpPr>
        <p:spPr>
          <a:xfrm>
            <a:off x="4067280" y="378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bt6.jpg" descr=""/>
          <p:cNvPicPr/>
          <p:nvPr/>
        </p:nvPicPr>
        <p:blipFill>
          <a:blip r:embed="rId1"/>
          <a:stretch/>
        </p:blipFill>
        <p:spPr>
          <a:xfrm>
            <a:off x="3059280" y="0"/>
            <a:ext cx="4032000" cy="549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684360" y="8496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判断下列句子的修辞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家们眼里的索桥却是一道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道富有弹性的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当其间显现一座石桥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发闷的苇丛做了一次深呼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了一口舒畅的气。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231640" y="1938240"/>
            <a:ext cx="4966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下面句子理解正确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　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造桥的工程人员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恐怕要算画家见的桥最多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句说除了造桥工程人员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家肯定不是见桥最多的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术工作者大都喜欢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句说美术工作者没有不喜欢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之毫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之千里”是一条成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叫作“失之毫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谬以千里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思是如果相差不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成的误差或错误也就不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是起到构成及联系之关键作用的形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也就具备了桥之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句从具体的桥扩展到“构成及联系之关键的形象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到这种作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就具备了桥之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7127640" y="83664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比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3453480" y="162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5087160" y="2060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1731960" y="575280"/>
            <a:ext cx="563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综合性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致远在《天净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思》中写到桥的句子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间传说《白蛇传》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许仙与白娘子在西湖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见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绎出一段凄美的爱情故事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郎与织女七夕相会的鹊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寄托了劳动人民美好的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句中的“鹊桥”又是什么意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解释当年工会定期举办青年联谊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成上百对大龄男女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连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工会再搭鹊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建立企业家协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成两地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密切的经济贸易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755640" y="177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枯藤老树昏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桥流水人家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7219800" y="22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断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6738120" y="393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立企业家协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8"/>
          <p:cNvSpPr/>
          <p:nvPr/>
        </p:nvSpPr>
        <p:spPr>
          <a:xfrm>
            <a:off x="539640" y="227664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611280" y="136368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脂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媒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弧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纤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前瞻后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笼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单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驻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煞它风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险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魅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着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点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摄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轮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颐和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76360" y="2133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069440" y="213372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805080" y="206064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474200" y="2708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4934160" y="278136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1563480" y="335772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ǒ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4152240" y="342900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6882480" y="33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2195640" y="40053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4292280" y="40053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6950160" y="40766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1477800" y="46530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4155120" y="46530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6880680" y="4653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1548720" y="530064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147200" y="5300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3"/>
          <p:cNvSpPr/>
          <p:nvPr/>
        </p:nvSpPr>
        <p:spPr>
          <a:xfrm>
            <a:off x="7382880" y="53737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5"/>
          <p:cNvSpPr/>
          <p:nvPr/>
        </p:nvSpPr>
        <p:spPr>
          <a:xfrm>
            <a:off x="900000" y="2637000"/>
            <a:ext cx="1555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6"/>
          <p:cNvSpPr/>
          <p:nvPr/>
        </p:nvSpPr>
        <p:spPr>
          <a:xfrm>
            <a:off x="3564000" y="2565360"/>
            <a:ext cx="1555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6156360" y="2565360"/>
            <a:ext cx="1555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8"/>
          <p:cNvSpPr/>
          <p:nvPr/>
        </p:nvSpPr>
        <p:spPr>
          <a:xfrm>
            <a:off x="826920" y="3213000"/>
            <a:ext cx="15588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9"/>
          <p:cNvSpPr/>
          <p:nvPr/>
        </p:nvSpPr>
        <p:spPr>
          <a:xfrm>
            <a:off x="3780000" y="3213000"/>
            <a:ext cx="1555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0"/>
          <p:cNvSpPr/>
          <p:nvPr/>
        </p:nvSpPr>
        <p:spPr>
          <a:xfrm>
            <a:off x="826920" y="3789360"/>
            <a:ext cx="1558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3924360" y="3860640"/>
            <a:ext cx="1555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2"/>
          <p:cNvSpPr/>
          <p:nvPr/>
        </p:nvSpPr>
        <p:spPr>
          <a:xfrm>
            <a:off x="6156360" y="3860640"/>
            <a:ext cx="1555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826920" y="4508640"/>
            <a:ext cx="1558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3851280" y="4508640"/>
            <a:ext cx="1555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6588000" y="4508640"/>
            <a:ext cx="1558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6"/>
          <p:cNvSpPr/>
          <p:nvPr/>
        </p:nvSpPr>
        <p:spPr>
          <a:xfrm>
            <a:off x="826920" y="5157720"/>
            <a:ext cx="1558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3419640" y="5157720"/>
            <a:ext cx="1555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6516720" y="5157720"/>
            <a:ext cx="1555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9"/>
          <p:cNvSpPr/>
          <p:nvPr/>
        </p:nvSpPr>
        <p:spPr>
          <a:xfrm>
            <a:off x="826920" y="5805360"/>
            <a:ext cx="15588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3780000" y="5805360"/>
            <a:ext cx="1555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1"/>
          <p:cNvSpPr/>
          <p:nvPr/>
        </p:nvSpPr>
        <p:spPr>
          <a:xfrm>
            <a:off x="6300720" y="5805360"/>
            <a:ext cx="1555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对角圆角矩形 42"/>
          <p:cNvSpPr/>
          <p:nvPr/>
        </p:nvSpPr>
        <p:spPr>
          <a:xfrm>
            <a:off x="324000" y="1484280"/>
            <a:ext cx="8280360" cy="4681440"/>
          </a:xfrm>
          <a:custGeom>
            <a:avLst/>
            <a:gdLst/>
            <a:ahLst/>
            <a:rect l="l" t="t" r="r" b="b"/>
            <a:pathLst>
              <a:path w="8280920" h="4680520">
                <a:moveTo>
                  <a:pt x="780102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900417"/>
                </a:lnTo>
                <a:cubicBezTo>
                  <a:pt x="8280920" y="4331255"/>
                  <a:pt x="7931656" y="4680519"/>
                  <a:pt x="7500818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889920" y="141444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97416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275000" y="2637000"/>
            <a:ext cx="5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443016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900000" y="4221000"/>
            <a:ext cx="17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1944000" y="2349360"/>
            <a:ext cx="1900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纤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纤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545440" y="2276640"/>
            <a:ext cx="1886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情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调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5548680" y="4005360"/>
            <a:ext cx="1490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ó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佛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仿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998720" y="4005360"/>
            <a:ext cx="2171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煞费苦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煞风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5"/>
          <p:cNvSpPr/>
          <p:nvPr/>
        </p:nvSpPr>
        <p:spPr>
          <a:xfrm>
            <a:off x="1619280" y="2708280"/>
            <a:ext cx="46080" cy="86508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865080"/>
              <a:gd name="textAreaBottom" fmla="*/ 86400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6"/>
          <p:cNvSpPr/>
          <p:nvPr/>
        </p:nvSpPr>
        <p:spPr>
          <a:xfrm>
            <a:off x="5292720" y="2565360"/>
            <a:ext cx="44280" cy="863640"/>
          </a:xfrm>
          <a:custGeom>
            <a:avLst/>
            <a:gdLst>
              <a:gd name="textAreaLeft" fmla="*/ 28440 w 44280"/>
              <a:gd name="textAreaRight" fmla="*/ 44640 w 44280"/>
              <a:gd name="textAreaTop" fmla="*/ 1080 h 863640"/>
              <a:gd name="textAreaBottom" fmla="*/ 8625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大括号 17"/>
          <p:cNvSpPr/>
          <p:nvPr/>
        </p:nvSpPr>
        <p:spPr>
          <a:xfrm>
            <a:off x="1619280" y="4292640"/>
            <a:ext cx="46080" cy="86508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865080"/>
              <a:gd name="textAreaBottom" fmla="*/ 86400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大括号 18"/>
          <p:cNvSpPr/>
          <p:nvPr/>
        </p:nvSpPr>
        <p:spPr>
          <a:xfrm>
            <a:off x="5219640" y="4292640"/>
            <a:ext cx="46080" cy="86508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865080"/>
              <a:gd name="textAreaBottom" fmla="*/ 86400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对角圆角矩形 19"/>
          <p:cNvSpPr/>
          <p:nvPr/>
        </p:nvSpPr>
        <p:spPr>
          <a:xfrm>
            <a:off x="395280" y="1341360"/>
            <a:ext cx="7993080" cy="4391280"/>
          </a:xfrm>
          <a:custGeom>
            <a:avLst/>
            <a:gdLst/>
            <a:ahLst/>
            <a:rect l="l" t="t" r="r" b="b"/>
            <a:pathLst>
              <a:path w="7992888" h="4392488">
                <a:moveTo>
                  <a:pt x="732095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3660392"/>
                </a:lnTo>
                <a:cubicBezTo>
                  <a:pt x="7992888" y="4064717"/>
                  <a:pt x="7665118" y="4392487"/>
                  <a:pt x="7260793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015200" y="141444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609200" y="1989000"/>
            <a:ext cx="2140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ù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险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ù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竣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uō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唆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79480" y="1844640"/>
            <a:ext cx="1954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搏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ó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搏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ó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博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傅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师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76080" y="4005360"/>
            <a:ext cx="2276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瞻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屋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赡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4932360" y="4076640"/>
            <a:ext cx="3456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销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陡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硝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1"/>
          <p:cNvSpPr/>
          <p:nvPr/>
        </p:nvSpPr>
        <p:spPr>
          <a:xfrm>
            <a:off x="971640" y="2276640"/>
            <a:ext cx="287280" cy="151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12720"/>
              <a:gd name="textAreaBottom" fmla="*/ 15055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2"/>
          <p:cNvSpPr/>
          <p:nvPr/>
        </p:nvSpPr>
        <p:spPr>
          <a:xfrm>
            <a:off x="971640" y="4365720"/>
            <a:ext cx="287280" cy="15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11280"/>
              <a:gd name="textAreaBottom" fmla="*/ 15040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左大括号 13"/>
          <p:cNvSpPr/>
          <p:nvPr/>
        </p:nvSpPr>
        <p:spPr>
          <a:xfrm>
            <a:off x="4716360" y="4365720"/>
            <a:ext cx="287280" cy="15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11280"/>
              <a:gd name="textAreaBottom" fmla="*/ 15040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号 14"/>
          <p:cNvSpPr/>
          <p:nvPr/>
        </p:nvSpPr>
        <p:spPr>
          <a:xfrm>
            <a:off x="4716360" y="2133720"/>
            <a:ext cx="287280" cy="15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11280"/>
              <a:gd name="textAreaBottom" fmla="*/ 15040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对角圆角矩形 15"/>
          <p:cNvSpPr/>
          <p:nvPr/>
        </p:nvSpPr>
        <p:spPr>
          <a:xfrm>
            <a:off x="395280" y="1413000"/>
            <a:ext cx="8280360" cy="4752720"/>
          </a:xfrm>
          <a:custGeom>
            <a:avLst/>
            <a:gdLst/>
            <a:ahLst/>
            <a:rect l="l" t="t" r="r" b="b"/>
            <a:pathLst>
              <a:path w="8280920" h="4752528">
                <a:moveTo>
                  <a:pt x="792103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960424"/>
                </a:lnTo>
                <a:cubicBezTo>
                  <a:pt x="8280920" y="4397890"/>
                  <a:pt x="7926283" y="4752527"/>
                  <a:pt x="7488817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684360" y="14857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成语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2060640"/>
          <a:ext cx="8280360" cy="3816360"/>
        </p:xfrm>
        <a:graphic>
          <a:graphicData uri="http://schemas.openxmlformats.org/drawingml/2006/table">
            <a:tbl>
              <a:tblPr/>
              <a:tblGrid>
                <a:gridCol w="920880"/>
                <a:gridCol w="7359480"/>
              </a:tblGrid>
              <a:tr h="76356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前瞻后顾　左顾右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求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辨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矩形 6"/>
          <p:cNvSpPr/>
          <p:nvPr/>
        </p:nvSpPr>
        <p:spPr>
          <a:xfrm>
            <a:off x="2411640" y="29242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有“看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1476360" y="3645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瞻后顾”侧重于形容考虑事情周密谨慎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做事要果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总是前瞻后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畏首畏尾。“左顾右盼”还用来形容得意的神态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到铜像前停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在我左顾右盼的时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像变戏法似的将一束鲜花捧到了我面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684360" y="62064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"/>
          <p:cNvSpPr/>
          <p:nvPr/>
        </p:nvSpPr>
        <p:spPr>
          <a:xfrm>
            <a:off x="468360" y="620640"/>
            <a:ext cx="2158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578880" y="1290240"/>
            <a:ext cx="1728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瞻后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史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煞它风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天一色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之毫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之千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苍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1116000" y="1844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魂离开肉体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极度的悲伤、愁苦或极度的欢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763640" y="2205000"/>
            <a:ext cx="979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看前面又看看后面。形容做事之前考虑周密慎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容顾虑太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犹豫不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1187280" y="321300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叙述英雄传说或重大历史事件的叙事长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2914920" y="37162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破坏人的兴致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1692360" y="4149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和天相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片苍茫。形容水域辽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879640" y="4581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意思是相差虽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造成的误差或错误极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1768680" y="50133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阔辽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1116000" y="5373720"/>
            <a:ext cx="316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尽目力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远望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对角圆角矩形 15"/>
          <p:cNvSpPr/>
          <p:nvPr/>
        </p:nvSpPr>
        <p:spPr>
          <a:xfrm>
            <a:off x="179280" y="1268280"/>
            <a:ext cx="8425080" cy="4681800"/>
          </a:xfrm>
          <a:custGeom>
            <a:avLst/>
            <a:gdLst/>
            <a:ahLst/>
            <a:rect l="l" t="t" r="r" b="b"/>
            <a:pathLst>
              <a:path w="8424936" h="4680520">
                <a:moveTo>
                  <a:pt x="780102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900417"/>
                </a:lnTo>
                <a:cubicBezTo>
                  <a:pt x="8424936" y="4331255"/>
                  <a:pt x="8075672" y="4680519"/>
                  <a:pt x="7644834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1472040" y="1465200"/>
            <a:ext cx="5500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吴冠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919—2010)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宜兴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代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家、油画家、美术教育家。致力于油画民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和中国画现代化的探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鲜明的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。油画代表作有《长江三峡》《北国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》《小鸟天堂》《鲁迅的故乡》等。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有《长江三峡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对角圆角矩形 5"/>
          <p:cNvSpPr/>
          <p:nvPr/>
        </p:nvSpPr>
        <p:spPr>
          <a:xfrm>
            <a:off x="395280" y="1413000"/>
            <a:ext cx="8209080" cy="3960720"/>
          </a:xfrm>
          <a:custGeom>
            <a:avLst/>
            <a:gdLst/>
            <a:ahLst/>
            <a:rect l="l" t="t" r="r" b="b"/>
            <a:pathLst>
              <a:path w="8208912" h="3960440">
                <a:moveTo>
                  <a:pt x="660086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300353"/>
                </a:lnTo>
                <a:cubicBezTo>
                  <a:pt x="8208912" y="3664908"/>
                  <a:pt x="7913381" y="3960439"/>
                  <a:pt x="7548826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39.jpg" descr=""/>
          <p:cNvPicPr/>
          <p:nvPr/>
        </p:nvPicPr>
        <p:blipFill>
          <a:blip r:embed="rId2"/>
          <a:stretch/>
        </p:blipFill>
        <p:spPr>
          <a:xfrm>
            <a:off x="7437600" y="2765520"/>
            <a:ext cx="19033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2451240" y="1600200"/>
            <a:ext cx="4220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是一篇带有说明性质的小品文。作者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画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画家的标准和眼光发掘出不同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桥的美学效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简洁而不失雅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缺角矩形 5"/>
          <p:cNvSpPr/>
          <p:nvPr/>
        </p:nvSpPr>
        <p:spPr>
          <a:xfrm>
            <a:off x="611280" y="1484280"/>
            <a:ext cx="7777080" cy="2376360"/>
          </a:xfrm>
          <a:custGeom>
            <a:avLst/>
            <a:gdLst>
              <a:gd name="textAreaLeft" fmla="*/ 280080 w 7777080"/>
              <a:gd name="textAreaRight" fmla="*/ 7497000 w 7777080"/>
              <a:gd name="textAreaTop" fmla="*/ 280080 h 2376360"/>
              <a:gd name="textAreaBottom" fmla="*/ 2096280 h 2376360"/>
            </a:gdLst>
            <a:ahLst/>
            <a:rect l="textAreaLeft" t="textAreaTop" r="textAreaRight" b="textAreaBottom"/>
            <a:pathLst>
              <a:path w="706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083" y="21600"/>
                </a:lnTo>
                <a:arcTo wR="3600" hR="3600" stAng="10800000" swAng="5400000"/>
                <a:lnTo>
                  <a:pt x="7068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538360" y="3916440"/>
            <a:ext cx="5291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1974960" y="1890720"/>
            <a:ext cx="520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美学小品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描述和带有说明性的文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阐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自己对“桥之美”的认识和看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桥之美在于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在不同的环境中与周围景物相配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景物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成富有变化的统一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缺角矩形 5"/>
          <p:cNvSpPr/>
          <p:nvPr/>
        </p:nvSpPr>
        <p:spPr>
          <a:xfrm>
            <a:off x="324000" y="1773360"/>
            <a:ext cx="8424720" cy="3095640"/>
          </a:xfrm>
          <a:custGeom>
            <a:avLst/>
            <a:gdLst>
              <a:gd name="textAreaLeft" fmla="*/ 364680 w 8424720"/>
              <a:gd name="textAreaRight" fmla="*/ 8060040 w 8424720"/>
              <a:gd name="textAreaTop" fmla="*/ 364680 h 3095640"/>
              <a:gd name="textAreaBottom" fmla="*/ 2730960 h 3095640"/>
            </a:gdLst>
            <a:ahLst/>
            <a:rect l="textAreaLeft" t="textAreaTop" r="textAreaRight" b="textAreaBottom"/>
            <a:pathLst>
              <a:path w="587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180" y="21600"/>
                </a:lnTo>
                <a:arcTo wR="3600" hR="3600" stAng="10800000" swAng="5400000"/>
                <a:lnTo>
                  <a:pt x="58780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00480" y="3813120"/>
            <a:ext cx="3838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